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496-1F94-4645-9498-E47E06D6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A03-6B6A-4381-9667-50A47D02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2F1-A42D-4850-A95D-E788D5C8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A633-922E-4143-A79B-82D9CDAE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7A4-7B8F-4704-98F5-A83AD91E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610D-9412-4FE2-9509-22938BD8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B9B-8A04-4726-89FD-5A7E284C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DD94-74F0-4495-B995-CA326A24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AB6C-4D8E-4A0F-B539-9FE18923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A3F-0456-483D-ACFF-EEC11280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B6E-9A82-427D-86E6-0BA7CC80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22F-105A-418F-9011-237D020B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DED0-163F-41AD-A69F-28AD684BA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e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143160" cy="4724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2705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atre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7624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e Sprinkl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36194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e Alarm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2438280" cy="3305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Lig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cuation Dr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37242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e Safety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358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e Safety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571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e Safety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4956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e Extinguis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2503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4:54:35Z</dcterms:created>
  <dc:creator> </dc:creator>
  <dc:description/>
  <dc:language>en-US</dc:language>
  <cp:lastModifiedBy> </cp:lastModifiedBy>
  <dcterms:modified xsi:type="dcterms:W3CDTF">2009-09-18T15:34:11Z</dcterms:modified>
  <cp:revision>2</cp:revision>
  <dc:subject/>
  <dc:title>Fire Safety</dc:title>
</cp:coreProperties>
</file>